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arrow.wav" ContentType="audio/x-wav"/>
  <Override PartName="/ppt/media/applaus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673D-8C7B-4842-BE13-022886C8A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EBB5-CCEF-4EB8-BB21-AD705349B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B821-10C8-40FC-BB17-AAC76FE10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4831-8C67-4C3A-B868-A8BEAA51D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67319-E949-45DB-87D0-A588EE651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B6F20-2340-425E-A8DA-DC0D4A369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DF6C4-4594-454B-B056-65D9E0F91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8EBF8-4968-44CE-BF02-393F9FF90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C6323-23F5-4FCE-BFFD-57CD8BC44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CEFA8-C567-4758-9985-179FD477D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E43FD-A3CC-4671-B760-4580399F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6560-84B2-4F9E-99BA-2068E1D2C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BA607-7145-4F7E-AA7E-F519BF43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C4527-E068-4154-A2C7-E42931CE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2706D-758E-434E-9D0F-3A034FAD2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347E9-E87F-4A17-86ED-C4F208AE2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7EA9C-6F0D-4896-8909-ED4BF7F40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2755-3679-4790-BF9E-83D4B574F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771E-EEE7-402A-A2CE-A1AE1A6B7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F58C-13FF-45BB-86DB-809B98545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7C19-0079-4954-8915-E3C8240A5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A67C-4460-4E36-8EE6-A1A112D9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1AD8-1093-45F5-BE81-ED99A14A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2D9C-5C8C-4AE3-B8F4-ED62E57D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C8461-9272-48B2-B0DD-AC3E45379EF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7549-F543-4F8F-8816-303E3651A70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 gusta jugar a los deportes.  Mi jardin tiene coli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384280" y="601560"/>
            <a:ext cx="455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i Jard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fade thruBlk="true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  <a:ea typeface="Arial"/>
              </a:rPr>
              <a:t>La casa de los Lowd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">
    <p:wheel spokes="1"/>
    <p:sndAc>
      <p:stSnd>
        <p:snd r:embed="rId1" name="arrow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 salón y la habitación de invitados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 gu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á usar la computadora para jug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i gustá jugar “minecraft.”  El salon es blanco y como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wedge/>
    <p:sndAc>
      <p:stSnd>
        <p:snd r:embed="rId1" name="arrow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i ban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de mi lavomy los die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comb dir="vert"/>
    <p:sndAc>
      <p:stSnd>
        <p:snd r:embed="rId1" name="arrow.wav"/>
      </p:stSnd>
    </p:sndAc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250" autoRev="1" fill="hold"/>
                                        <p:tgtEl>
                                          <p:spTgt spid="1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i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cin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 gu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 comer en la cocina.  La cocina es blanca con  accentos en bosque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27040" y="314280"/>
            <a:ext cx="8245440" cy="12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i  cuatro                                                           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 gusta dom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ás importante dibido a que su mi habitac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wipe dir="r"/>
    <p:sndAc>
      <p:stSnd>
        <p:snd r:embed="rId1" name="applaus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851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dwardian Script ITC"/>
              </a:rPr>
              <a:t>Mi gabinete de China esta en mi comedor. Tien una funcion de tecla en el lado asi que todo lo qua hacemos es aprvechar quethe side so u tap the hinge and it lightens up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Edwardian Script IT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22860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lackadder ITC"/>
              </a:rPr>
              <a:t>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Edwardian Script ITC"/>
              </a:rPr>
              <a:t>Mi come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wheel spokes="8"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mi favorito roomis el que tiene el equipo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orque me encanta jugar en él y es tan divertido, porque yo juego Minecraf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0T15:58:13Z</dcterms:created>
  <dc:creator>lowdmic</dc:creator>
  <dc:description/>
  <dc:language>en-US</dc:language>
  <cp:lastModifiedBy>lowdmic</cp:lastModifiedBy>
  <dcterms:modified xsi:type="dcterms:W3CDTF">2012-04-25T16:00:45Z</dcterms:modified>
  <cp:revision>13</cp:revision>
  <dc:subject/>
  <dc:title>La casa de los Lowd</dc:title>
</cp:coreProperties>
</file>